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44792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 flipH="1">
            <a:off x="8924400" y="6170760"/>
            <a:ext cx="180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582040" y="614988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C985-542D-4FFE-8396-72AF8860B6A3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450800" y="914400"/>
            <a:ext cx="748692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8349480" y="6423120"/>
            <a:ext cx="575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9983-1190-4AF0-BD47-9950152AAF2A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"/>
          <p:cNvPicPr/>
          <p:nvPr/>
        </p:nvPicPr>
        <p:blipFill>
          <a:blip r:embed="rId2"/>
          <a:stretch/>
        </p:blipFill>
        <p:spPr>
          <a:xfrm>
            <a:off x="228600" y="5979960"/>
            <a:ext cx="1082520" cy="49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4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933480" cy="286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Logo Fundación"/>
          <p:cNvPicPr/>
          <p:nvPr/>
        </p:nvPicPr>
        <p:blipFill>
          <a:blip r:embed="rId3"/>
          <a:stretch/>
        </p:blipFill>
        <p:spPr>
          <a:xfrm>
            <a:off x="5429160" y="4000680"/>
            <a:ext cx="2714760" cy="112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4"/>
          <p:cNvSpPr/>
          <p:nvPr/>
        </p:nvSpPr>
        <p:spPr>
          <a:xfrm>
            <a:off x="144792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 flipH="1">
            <a:off x="8924400" y="6170760"/>
            <a:ext cx="180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582040" y="614988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5BEC-6874-47EF-9760-F6DDFCB2DF6C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450800" y="914400"/>
            <a:ext cx="748692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8349480" y="6423120"/>
            <a:ext cx="575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E6C1-70B0-4745-A15D-88FE251E0D41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228600" y="5979960"/>
            <a:ext cx="1082520" cy="49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Logo Fundación"/>
          <p:cNvPicPr/>
          <p:nvPr/>
        </p:nvPicPr>
        <p:blipFill>
          <a:blip r:embed="rId3"/>
          <a:stretch/>
        </p:blipFill>
        <p:spPr>
          <a:xfrm>
            <a:off x="0" y="214200"/>
            <a:ext cx="1428840" cy="590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4"/>
          <p:cNvSpPr/>
          <p:nvPr/>
        </p:nvSpPr>
        <p:spPr>
          <a:xfrm>
            <a:off x="144792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 flipH="1">
            <a:off x="8924400" y="6170760"/>
            <a:ext cx="180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582040" y="614988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431F-1CAA-483E-960E-85178B911381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1450800" y="914400"/>
            <a:ext cx="748692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8349480" y="6423120"/>
            <a:ext cx="575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E59A-D5FF-4511-BA96-C0159F53C5DB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2"/>
          <a:stretch/>
        </p:blipFill>
        <p:spPr>
          <a:xfrm>
            <a:off x="228600" y="5979960"/>
            <a:ext cx="1082520" cy="4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Logo Fundación"/>
          <p:cNvPicPr/>
          <p:nvPr/>
        </p:nvPicPr>
        <p:blipFill>
          <a:blip r:embed="rId3"/>
          <a:stretch/>
        </p:blipFill>
        <p:spPr>
          <a:xfrm>
            <a:off x="0" y="214200"/>
            <a:ext cx="1428840" cy="590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44792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 flipH="1">
            <a:off x="8924400" y="6170760"/>
            <a:ext cx="180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8582040" y="614988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0381-9B79-4D3D-AC44-6FC1F7C1E68C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450800" y="914400"/>
            <a:ext cx="748692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8349480" y="6423120"/>
            <a:ext cx="575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951F-0B4C-4720-88DF-383FE96529CF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4" descr=""/>
          <p:cNvPicPr/>
          <p:nvPr/>
        </p:nvPicPr>
        <p:blipFill>
          <a:blip r:embed="rId2"/>
          <a:stretch/>
        </p:blipFill>
        <p:spPr>
          <a:xfrm>
            <a:off x="228600" y="5979960"/>
            <a:ext cx="1082520" cy="497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Logo Fundación"/>
          <p:cNvPicPr/>
          <p:nvPr/>
        </p:nvPicPr>
        <p:blipFill>
          <a:blip r:embed="rId3"/>
          <a:stretch/>
        </p:blipFill>
        <p:spPr>
          <a:xfrm>
            <a:off x="0" y="428760"/>
            <a:ext cx="1428840" cy="590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5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7286760" cy="16430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Los sentidos en busca del sentido ,de los escenarios rurales como escuelas vivas” </a:t>
            </a:r>
            <a:br>
              <a:rPr sz="1600"/>
            </a:br>
            <a:br>
              <a:rPr sz="1600"/>
            </a:b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Chocontá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3 Imagen" descr="fo.png"/>
          <p:cNvPicPr/>
          <p:nvPr/>
        </p:nvPicPr>
        <p:blipFill>
          <a:blip r:embed="rId1"/>
          <a:stretch/>
        </p:blipFill>
        <p:spPr>
          <a:xfrm>
            <a:off x="1420920" y="-755640"/>
            <a:ext cx="430344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Por qué partir de  la educación ambiental  y el PRAE como plataforma de articulación transversal de las demás áreas curriculares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 algn="just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que en la educación ambiental confluyen una serie de técnicas interdisciplinarias en las que se vinculan distintas áreas culturales ,sociales, lingüísticas  y artísticas erigiéndose de esta manera como el“ principio de una educación integral permanente”. En  la medida ,en que es un proceso que consiste en reconocer valores y aclarar conceptos con el objeto de fomentar las destrezas y actitudes necesarias para comprender y apreciar las interrelaciones entre el ser humano su cultura y su medio físico. Prepara a los individuos y colectivos para el saber, para el dialogo de saberes ,para el saber hacer y saber ser .Contribuyendo así en la construcción de una cultura participativa, inclusiva y diversa  que tenga en cuenta las  particularidades de las regiones de manera diferenciada de acuerdo con el context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 este orden de ideas el PRAE en su calidad de  proyecto socio ambiental  que involucra distintos  componentes pedagógicos en la búsqueda de soluciones a problemáticas del contexto. Integra el currículo a partir del reconocimiento de situaciones ambientales  , sociales y culturales que vinculan o articulan una forma de participación de todos los actores interesados en el desarrollo del proceso. Movilizando el conocimiento de forma integral para permitir la transformación de una situación o problemática da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strumentos de seguimiento (Talleri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71720" y="1214280"/>
          <a:ext cx="7143480" cy="5151600"/>
        </p:xfrm>
        <a:graphic>
          <a:graphicData uri="http://schemas.openxmlformats.org/drawingml/2006/table">
            <a:tbl>
              <a:tblPr/>
              <a:tblGrid>
                <a:gridCol w="1190520"/>
                <a:gridCol w="1190520"/>
                <a:gridCol w="1190520"/>
                <a:gridCol w="1190880"/>
                <a:gridCol w="1190520"/>
                <a:gridCol w="1190520"/>
              </a:tblGrid>
              <a:tr h="66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 dí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RO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iculta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ones correctiv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X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</a:tr>
              <a:tr h="411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ccion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lcances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 se registraría si efectivamente lo que se propuso como alcance, se desarrolló plenamente, vía la metodología plantead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sta columna se daría cuenta de los escollos con los que nos topamos en el momento de materializar los alcances propues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 se expresa la manera como se afrontaron  las dificultades ,teniendo siempre presente las metas a las que le estamos apuntan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analiza críticamente   la pertinencia y eficacia  de  lo que aconteció en la sesión de manera reflexiva, es decir, que se trata de  un análisis argumentativo y no  descriptivo, este se realiza siempre de cara a  la consecución de las dos  metas  gruesas establecidas en el proyecto gener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strumentos de seguimiento (Docent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857240" y="1643040"/>
          <a:ext cx="5786640" cy="2428920"/>
        </p:xfrm>
        <a:graphic>
          <a:graphicData uri="http://schemas.openxmlformats.org/drawingml/2006/table">
            <a:tbl>
              <a:tblPr/>
              <a:tblGrid>
                <a:gridCol w="1506600"/>
                <a:gridCol w="966960"/>
                <a:gridCol w="1230120"/>
                <a:gridCol w="2082960"/>
              </a:tblGrid>
              <a:tr h="2428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O QUE SE PODRIA APREND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AS AREAS QUE PUEDEN INTEGRARSE Y DE QUE FOR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QUE ME PARECE Y QUE NO DEL EJERCIC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PORTES A LA COMUNIDAD Y LA ESCU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00"/>
                </a:solidFill>
                <a:latin typeface="Arial"/>
              </a:rPr>
              <a:t>Reseña Histo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85560" y="857160"/>
            <a:ext cx="74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ctr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Los antecedentes que dieron origen al programa en mención  están representados por dos hito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.  El proyecto de Exploración visual efectuado durante los años 2008  y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e consistió en la realización de una serie d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lleres que  giraron entorno a dos líneas de acción: el reconocimiento del entorno y el diagnóstico de las problemáticas ambientales de las escuelas participantes. </a:t>
            </a: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Allí los niños encontraron un espacio de reflexión y cuidado del medioambiente a través de expresiones artísticas y el desarrollo de habilidades expresiv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rograma se caracterizó por promover el desarrollo infantil recurriendo a “modalidades pedagógicas  no convencionales”  apoyándose en actividades artísticas, desde las cuales se abordaron aspectos curriculares y didáct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rograma de Exploración Visual trabajó desde cuatro áreas de desarroll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Área de Independencia y Confianza en Sí Mis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Área de la Conviv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Área de la Expresión de Sentimien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Área del Desarrollo Intele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425"/>
              </a:spcBef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8 Flecha abajo"/>
          <p:cNvGrpSpPr/>
          <p:nvPr/>
        </p:nvGrpSpPr>
        <p:grpSpPr>
          <a:xfrm>
            <a:off x="2152800" y="1676520"/>
            <a:ext cx="474480" cy="1255680"/>
            <a:chOff x="2152800" y="1676520"/>
            <a:chExt cx="474480" cy="1255680"/>
          </a:xfrm>
        </p:grpSpPr>
        <p:pic>
          <p:nvPicPr>
            <p:cNvPr id="229" name="8 Flecha abajo" descr=""/>
            <p:cNvPicPr/>
            <p:nvPr/>
          </p:nvPicPr>
          <p:blipFill>
            <a:blip r:embed="rId1"/>
            <a:stretch/>
          </p:blipFill>
          <p:spPr>
            <a:xfrm>
              <a:off x="2152800" y="1676520"/>
              <a:ext cx="4744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303640" y="1714680"/>
              <a:ext cx="1792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9 Flecha abajo"/>
          <p:cNvGrpSpPr/>
          <p:nvPr/>
        </p:nvGrpSpPr>
        <p:grpSpPr>
          <a:xfrm>
            <a:off x="6437160" y="1609560"/>
            <a:ext cx="457200" cy="1322640"/>
            <a:chOff x="6437160" y="1609560"/>
            <a:chExt cx="457200" cy="1322640"/>
          </a:xfrm>
        </p:grpSpPr>
        <p:pic>
          <p:nvPicPr>
            <p:cNvPr id="232" name="9 Flecha abajo" descr=""/>
            <p:cNvPicPr/>
            <p:nvPr/>
          </p:nvPicPr>
          <p:blipFill>
            <a:blip r:embed="rId2"/>
            <a:stretch/>
          </p:blipFill>
          <p:spPr>
            <a:xfrm>
              <a:off x="6437160" y="1609560"/>
              <a:ext cx="45720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585120" y="1643040"/>
              <a:ext cx="16812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1 Título"/>
          <p:cNvGrpSpPr/>
          <p:nvPr/>
        </p:nvGrpSpPr>
        <p:grpSpPr>
          <a:xfrm>
            <a:off x="798480" y="2889360"/>
            <a:ext cx="2901960" cy="682560"/>
            <a:chOff x="798480" y="2889360"/>
            <a:chExt cx="2901960" cy="682560"/>
          </a:xfrm>
        </p:grpSpPr>
        <p:pic>
          <p:nvPicPr>
            <p:cNvPr id="235" name="1 Título" descr=""/>
            <p:cNvPicPr/>
            <p:nvPr/>
          </p:nvPicPr>
          <p:blipFill>
            <a:blip r:embed="rId3"/>
            <a:stretch/>
          </p:blipFill>
          <p:spPr>
            <a:xfrm>
              <a:off x="798480" y="2889360"/>
              <a:ext cx="2901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57160" y="2928960"/>
              <a:ext cx="2786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ffffff"/>
                  </a:solidFill>
                  <a:latin typeface="Arial"/>
                </a:rPr>
                <a:t>1. El  cuidado y la importancia  del 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1 Título"/>
          <p:cNvGrpSpPr/>
          <p:nvPr/>
        </p:nvGrpSpPr>
        <p:grpSpPr>
          <a:xfrm>
            <a:off x="4651200" y="2859120"/>
            <a:ext cx="3943440" cy="927000"/>
            <a:chOff x="4651200" y="2859120"/>
            <a:chExt cx="3943440" cy="927000"/>
          </a:xfrm>
        </p:grpSpPr>
        <p:pic>
          <p:nvPicPr>
            <p:cNvPr id="238" name="1 Título" descr=""/>
            <p:cNvPicPr/>
            <p:nvPr/>
          </p:nvPicPr>
          <p:blipFill>
            <a:blip r:embed="rId4"/>
            <a:stretch/>
          </p:blipFill>
          <p:spPr>
            <a:xfrm>
              <a:off x="4651200" y="2859120"/>
              <a:ext cx="394344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714920" y="2928960"/>
              <a:ext cx="38275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O" sz="14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es-CO" sz="1200" spc="-1" strike="noStrike">
                  <a:solidFill>
                    <a:srgbClr val="ffffff"/>
                  </a:solidFill>
                  <a:latin typeface="Arial"/>
                </a:rPr>
                <a:t> la revaloración de  la identidad, observada a través de la indagación que hacían los niños sobre si mismos y su entorno por medio de la práctica artística</a:t>
              </a:r>
              <a:r>
                <a:rPr b="0" lang="es-CO" sz="1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12 Imagen" descr="DSC01263.JPG"/>
          <p:cNvPicPr/>
          <p:nvPr/>
        </p:nvPicPr>
        <p:blipFill>
          <a:blip r:embed="rId5"/>
          <a:stretch/>
        </p:blipFill>
        <p:spPr>
          <a:xfrm>
            <a:off x="6802560" y="3876840"/>
            <a:ext cx="2109600" cy="3560760"/>
          </a:xfrm>
          <a:prstGeom prst="rect">
            <a:avLst/>
          </a:prstGeom>
          <a:ln w="0">
            <a:noFill/>
          </a:ln>
        </p:spPr>
      </p:pic>
      <p:pic>
        <p:nvPicPr>
          <p:cNvPr id="241" name="13 Imagen" descr="DSC01256.JPG"/>
          <p:cNvPicPr/>
          <p:nvPr/>
        </p:nvPicPr>
        <p:blipFill>
          <a:blip r:embed="rId6"/>
          <a:stretch/>
        </p:blipFill>
        <p:spPr>
          <a:xfrm>
            <a:off x="4316400" y="3876840"/>
            <a:ext cx="2187720" cy="3597120"/>
          </a:xfrm>
          <a:prstGeom prst="rect">
            <a:avLst/>
          </a:prstGeom>
          <a:ln w="0">
            <a:noFill/>
          </a:ln>
        </p:spPr>
      </p:pic>
      <p:pic>
        <p:nvPicPr>
          <p:cNvPr id="242" name="17 Imagen" descr="PICT0021.JPG"/>
          <p:cNvPicPr/>
          <p:nvPr/>
        </p:nvPicPr>
        <p:blipFill>
          <a:blip r:embed="rId7"/>
          <a:stretch/>
        </p:blipFill>
        <p:spPr>
          <a:xfrm>
            <a:off x="1206360" y="3706920"/>
            <a:ext cx="2159280" cy="2730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1 Título"/>
          <p:cNvGrpSpPr/>
          <p:nvPr/>
        </p:nvGrpSpPr>
        <p:grpSpPr>
          <a:xfrm>
            <a:off x="865080" y="1006560"/>
            <a:ext cx="7699320" cy="639720"/>
            <a:chOff x="865080" y="1006560"/>
            <a:chExt cx="7699320" cy="639720"/>
          </a:xfrm>
        </p:grpSpPr>
        <p:pic>
          <p:nvPicPr>
            <p:cNvPr id="245" name="1 Título" descr=""/>
            <p:cNvPicPr/>
            <p:nvPr/>
          </p:nvPicPr>
          <p:blipFill>
            <a:blip r:embed="rId8"/>
            <a:stretch/>
          </p:blipFill>
          <p:spPr>
            <a:xfrm>
              <a:off x="865080" y="1006560"/>
              <a:ext cx="76993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28800" y="1071720"/>
              <a:ext cx="7578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500" spc="-1" strike="noStrike">
                  <a:solidFill>
                    <a:srgbClr val="ffffff"/>
                  </a:solidFill>
                  <a:latin typeface="Arial"/>
                </a:rPr>
                <a:t>El Taller de exploración visual se fundamento  en la experiencia sensible como estrategia cognitiva  orientada por dos ejes estructural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segundo hito se materializo en el programa  “LEER PARA ESCRIBIR, ESCRIBIR PARA SER LEIDO”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uperación y construcción de una memoria colectiv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56840" y="1214280"/>
            <a:ext cx="748692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349"/>
              </a:spcBef>
              <a:spcAft>
                <a:spcPts val="524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Este programa  se concibió ,atendiendo a las sugerencias de los docentes y demás actores involucrados en el proceso  de evaluación correspondiente a las actividades ejecutadas  en los años 2008-2009 donde  se identificaron una serie de neces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Relacionadas  con la detección de ciertas  falencias  en el área de lenguaje,por este motivo  el proyecto se oriento hacia el fortalecimiento de las competencias  comunicativas en los proceso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ctoescriturales, orales y literarios de los 445 niños y niñas adscritos a las doce escuelas rurales pertenecientes al Colegio Departamental Rufino Cuervo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3 Imagen" descr="P1090681[1].JPG"/>
          <p:cNvPicPr/>
          <p:nvPr/>
        </p:nvPicPr>
        <p:blipFill>
          <a:blip r:embed="rId1"/>
          <a:stretch/>
        </p:blipFill>
        <p:spPr>
          <a:xfrm>
            <a:off x="2786040" y="3571920"/>
            <a:ext cx="3857760" cy="256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ontexto del problema y  la justificación de la propuesta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fundamento sobre los siguientes interrogante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Rectángulo"/>
          <p:cNvSpPr/>
          <p:nvPr/>
        </p:nvSpPr>
        <p:spPr>
          <a:xfrm>
            <a:off x="2143080" y="2143080"/>
            <a:ext cx="6215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Qué es y para qué sirve el lenguaj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4 Rectángulo"/>
          <p:cNvSpPr/>
          <p:nvPr/>
        </p:nvSpPr>
        <p:spPr>
          <a:xfrm>
            <a:off x="2286000" y="2714760"/>
            <a:ext cx="557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Desde dónde se mira el Lenguaj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5 Rectángulo"/>
          <p:cNvSpPr/>
          <p:nvPr/>
        </p:nvSpPr>
        <p:spPr>
          <a:xfrm>
            <a:off x="2500200" y="3357720"/>
            <a:ext cx="535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Qué significa  Leer y escribir en la escuela, ho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Users\Juan Camilo\Back Up 2\Juan Camilo\Mis documentos\work\choconta\Chocontá 2010\Registro Fotografíco\PICT0107.JPG"/>
          <p:cNvPicPr/>
          <p:nvPr/>
        </p:nvPicPr>
        <p:blipFill>
          <a:blip r:embed="rId1"/>
          <a:stretch/>
        </p:blipFill>
        <p:spPr>
          <a:xfrm>
            <a:off x="2419200" y="4280040"/>
            <a:ext cx="1659240" cy="2206440"/>
          </a:xfrm>
          <a:prstGeom prst="rect">
            <a:avLst/>
          </a:prstGeom>
          <a:ln w="0">
            <a:noFill/>
          </a:ln>
        </p:spPr>
      </p:pic>
      <p:sp>
        <p:nvSpPr>
          <p:cNvPr id="255" name="8 Llamada ovalada"/>
          <p:cNvSpPr/>
          <p:nvPr/>
        </p:nvSpPr>
        <p:spPr>
          <a:xfrm>
            <a:off x="2214720" y="1143000"/>
            <a:ext cx="5929200" cy="357192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Rectángulo"/>
          <p:cNvSpPr/>
          <p:nvPr/>
        </p:nvSpPr>
        <p:spPr>
          <a:xfrm>
            <a:off x="1071720" y="1928880"/>
            <a:ext cx="750096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l segundo eje de formación se baso en el fomento de una conciencia y conducta  ecologica ,contextualmente situada en las particularidades propias del entorno ru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stos dos pilares buscaron desarrollar capacidades de liderazgo, identidad y pertenencia, para que los niños y niñas reconocieran su entorno y  de esta manera lograran resolver  sus propios problemas fisico-ambientales a través de distintas disciplinas artísticas , las ciencias  naturales y el lengu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imultaneamente se implementaron una serie de talleres enfocados  a los 22 maestros de las sedes rurales para brindar herramientas pedagogicas en el área de lenguaje y así vigorizar  los procesos de a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valuación 2010-Proyecció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CuadroTexto"/>
          <p:cNvSpPr/>
          <p:nvPr/>
        </p:nvSpPr>
        <p:spPr>
          <a:xfrm>
            <a:off x="1643040" y="1285920"/>
            <a:ext cx="6500880" cy="61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uego de hacer un juicioso ejercicio de reflexión ,basado en el análisis de los avances, logros y por supuesto aciertos y desaciertos con los que nos hemos enriquecido y enfrentado a lo largo del desarrollo del proceso adelantado desde el 2008 a la fecha , salta a la vista algo que parece evidente ,si bien la escuela hace las veces de puente  entre la cultura escolar , su particular modo de producir conocimiento,  y los otros saberes que se originan en y a partir del contexto en el cual esta se inscribe ,estos no siempre entran en dialo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Teniendo esto en mente surge la necesidad de encontrar una vía por medio de la cual se logre  superar la brecha que separa lo que sucede en el ámbito escolar y la vida cotidiana, comprendiendo ambos ámbitos como espacios donde se generan aprendizajes de los que se derivan distintas formas de conocer e interpretar el mu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Ya que esto acontece en un espacio eminentemente rural es preciso indagar como, sus particularidades  culturales ,sociales y biofísicas están contribuyendo a edificar junto con la escuela la cosmovisión o marco interpretativo a partir del cual conciben su realidad los niños y niñas adscritos a las sedes rurales, para lograr este cometido se hace indispensable ,repensar la necesidad de  darle u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pel protagónico al entorno rural no solo cómo insumo de trabajo, sino como escenario de aprendiza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Es precisamente aquí que cobra relevancia el concepto y la aplicación de  una educación en contexto, ello se llevaría a cabo a través la construcción de una reflexión practica sobre lo que significa   el quehacer pedagógico en el entorno rural .Con este propósito se formulan las siguientes met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ff0000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90520" indent="-29052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entar las prácticas pedagógicas para el desarrollo de competencias comunicativas, científicas naturales , sociales y ciudadanas que permitan un mayor nivel de claridad de las dinámicas rurales y sus implicaciones para el funcionamiento i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MET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143080" y="3143160"/>
          <a:ext cx="6095880" cy="2560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5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l año 2011, se consolidará un espacio de reflexión con los maestros de las sedes rurales y sus directivos  con el propósito de aportar a la mejora de las competencias sociales, comunicativas, ciudadanas y científicas natura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ejecución de 35 sesiones de dinamización pedagógica  por escuela durante el 2011, permitirá mediante  prácticas artísticas y ambientales, reflexionar sobre la importancia de la implementación del PRAE institucional en las sedes rura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2 Rectángulo"/>
          <p:cNvSpPr/>
          <p:nvPr/>
        </p:nvSpPr>
        <p:spPr>
          <a:xfrm>
            <a:off x="1357200" y="1357200"/>
            <a:ext cx="678672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tendido como la oportunidad  de abrir una serie de interrogantes y discusiones alrededor de lo que implica la práctica docente en el contexto rural, a nivel procedimental, conceptual y actitud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rendidas como una manera de consolidar estrategias metodológicas que permitan el reconocimiento de los escenarios rurales ,como escenarios de aprendizaje, desde la perspectiva de la educación ambiental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 Rectángulo"/>
          <p:cNvSpPr/>
          <p:nvPr/>
        </p:nvSpPr>
        <p:spPr>
          <a:xfrm>
            <a:off x="3088080" y="1071720"/>
            <a:ext cx="3432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pacio de Reflexió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 Rectángulo"/>
          <p:cNvSpPr/>
          <p:nvPr/>
        </p:nvSpPr>
        <p:spPr>
          <a:xfrm>
            <a:off x="1742400" y="3214800"/>
            <a:ext cx="593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siones de dinamización pedagógic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0:14:20Z</dcterms:created>
  <dc:creator>chof</dc:creator>
  <dc:description/>
  <dc:language>en-US</dc:language>
  <cp:lastModifiedBy>Usuario</cp:lastModifiedBy>
  <cp:lastPrinted>2001-05-04T17:21:56Z</cp:lastPrinted>
  <dcterms:modified xsi:type="dcterms:W3CDTF">2011-06-08T14:35:27Z</dcterms:modified>
  <cp:revision>499</cp:revision>
  <dc:subject/>
  <dc:title>Powerpoint Guidelines</dc:title>
</cp:coreProperties>
</file>